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963525" cy="8640763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C6F6-FB1E-4332-9371-150D59F8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1166652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280" y="4995360"/>
            <a:ext cx="1166652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B50D-73E5-48EC-8BF6-C65040CF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544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280" y="499536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25440" y="499536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506F-0EEA-45BF-BDFE-76622454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36320" y="201600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280" y="499536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1800" y="499536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36320" y="499536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B68-3141-48CA-B2E3-1DC72D56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280" y="2016000"/>
            <a:ext cx="11666520" cy="57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1E4-6D00-4F99-B6E4-71D215F8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1166652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145B-E8C9-441E-AF8F-B3B95330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569304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25440" y="2016000"/>
            <a:ext cx="569304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5308-FF83-4078-A902-0B478369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3D1A-B793-4462-A228-2881EDC0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345960"/>
            <a:ext cx="116665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6A37-8FD9-4840-BBCC-720D0205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25440" y="2016000"/>
            <a:ext cx="569304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280" y="499536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3783-8481-4453-9F73-6CBAF26F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569304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2544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25440" y="499536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B0C0-D383-4D17-AA80-2C3B9A10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2544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280" y="4995360"/>
            <a:ext cx="1166652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D1D2-BF2E-44FA-A253-0CA59807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280" y="2016000"/>
            <a:ext cx="1166652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marL="441360" indent="-44136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957240" indent="-36828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2" marL="1471680" indent="-29376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3" marL="2062080" indent="-29376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4" marL="2651040" indent="-29376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5" marL="2651040" indent="-29376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6" marL="2651040" indent="-29376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280" y="7868880"/>
            <a:ext cx="3024360" cy="6001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Autofit/>
          </a:bodyPr>
          <a:lstStyle>
            <a:lvl1pPr indent="0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  <a:defRPr b="0" lang="zh-TW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8720" y="7868880"/>
            <a:ext cx="4103640" cy="6001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Autofit/>
          </a:bodyPr>
          <a:lstStyle>
            <a:lvl1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  <a:defRPr b="0" lang="zh-TW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90160" y="7868880"/>
            <a:ext cx="3024000" cy="6001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Autofit/>
          </a:bodyPr>
          <a:lstStyle>
            <a:lvl1pPr indent="0" algn="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  <a:defRPr b="0" lang="zh-TW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fld id="{09D708DB-3FFD-439B-880B-4C7E8465519F}" type="slidenum">
              <a:rPr b="0" lang="zh-TW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56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28116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160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0272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272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2432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324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4592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592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6752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752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890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908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106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0688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322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2288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5385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385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7545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545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9705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705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1865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652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4021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21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6181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181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8341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3416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049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498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265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658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481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818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697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9780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913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134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129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944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345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454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561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614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777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770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993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9308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8209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0908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8424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4247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640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407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8856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8567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9072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7272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9288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2883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9504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5043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9720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2036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9936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360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0152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1520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0368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3680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48000" y="287280"/>
            <a:ext cx="84963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Book Antiqua"/>
              </a:rPr>
              <a:t>Start-of-Line Deta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0585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58544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801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80144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018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01888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1234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23488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14523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5232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16679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6679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735280" y="2016000"/>
            <a:ext cx="9289440" cy="450720"/>
            <a:chOff x="2735280" y="2016000"/>
            <a:chExt cx="9289440" cy="450720"/>
          </a:xfrm>
        </p:grpSpPr>
        <p:sp>
          <p:nvSpPr>
            <p:cNvPr id="128" name=""/>
            <p:cNvSpPr/>
            <p:nvPr/>
          </p:nvSpPr>
          <p:spPr>
            <a:xfrm>
              <a:off x="280800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4000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164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0364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3528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728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9892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3092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6256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9420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2620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5784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8984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148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85348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28512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71712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4876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735280" y="2016000"/>
              <a:ext cx="9289440" cy="450720"/>
              <a:chOff x="2735280" y="2016000"/>
              <a:chExt cx="9289440" cy="450720"/>
            </a:xfrm>
          </p:grpSpPr>
          <p:sp>
            <p:nvSpPr>
              <p:cNvPr id="147" name=""/>
              <p:cNvSpPr/>
              <p:nvPr/>
            </p:nvSpPr>
            <p:spPr>
              <a:xfrm>
                <a:off x="27352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17016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05400" y="2016000"/>
                <a:ext cx="56664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4064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758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91112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4636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8160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21684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6520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8732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522200" y="2016000"/>
                <a:ext cx="56664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95780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926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282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26316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69876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13832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057860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0188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145844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1058220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01564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4908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80836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352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6692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720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989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0364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056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3564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6256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6728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892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262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3092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578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6256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898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9456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214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2620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5312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582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851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8984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1676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42184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4876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85348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7804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28512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2124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712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6440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14876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0760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58076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076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01240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93932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4444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3713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0836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352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6692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7200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989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036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3056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3708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640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6872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960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0072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276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3236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5928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6436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912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960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2292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2800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549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96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8656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9164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1856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42328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502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85492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7822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28692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2138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71856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64548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15056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0774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5822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50912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01420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411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458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37276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0836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3528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6692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720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989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0364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3056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3708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640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6872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960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0072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2764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323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5928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6580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9272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978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247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2944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563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6144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883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99308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200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42472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520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85672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78364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2883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21528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72036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64728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15200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07892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5840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5109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01564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9425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45052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37744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35280" y="3527280"/>
            <a:ext cx="90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00360" y="3960720"/>
            <a:ext cx="14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103640" y="3744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1036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3196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3564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5128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6728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18328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989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6149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8309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4692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625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785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945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1056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12620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4220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55820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738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898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058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42184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63748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85348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6948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2851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11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7171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93312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1487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3647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5807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079676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01240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22840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44440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6600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535640" y="4752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35640" y="4753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967280" y="4752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67280" y="496872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2700360" y="4970520"/>
            <a:ext cx="183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51280" y="475452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993080" y="4752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993080" y="4753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8424720" y="4752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424720" y="496872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09080" y="475452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423280" y="497052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1449080" y="47545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449080" y="475452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1880720" y="47545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665080" y="47563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705040" y="4321080"/>
            <a:ext cx="14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108320" y="41050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083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243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403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75632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7196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8796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40396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196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356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516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6760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8324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9924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1524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1308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3468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5628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77888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9945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2105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4265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64252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85816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07416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29016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5058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7218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9378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015380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36944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058544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80144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0170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2330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4490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66508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00360" y="4608360"/>
            <a:ext cx="4862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562880" y="439236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56288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888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9452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21052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42652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64252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85816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07416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9016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50580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72180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93780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15380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36944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058544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80144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01708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23308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44908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66508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751280" y="5110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751280" y="511020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183280" y="5110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183280" y="532620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2700000" y="5327640"/>
            <a:ext cx="2050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67280" y="5111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8209080" y="5110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209080" y="511020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8640720" y="5110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40720" y="532620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424720" y="5111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639280" y="532764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1665080" y="5111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665080" y="5111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967280" y="54673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67280" y="54673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398920" y="54673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398920" y="568332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700000" y="5689440"/>
            <a:ext cx="22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183280" y="54687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8424720" y="54673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424720" y="54673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8856720" y="54673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856720" y="56833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640720" y="54687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854920" y="568476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183280" y="5832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183280" y="5832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614920" y="5832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14920" y="604836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2700000" y="6048360"/>
            <a:ext cx="248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398920" y="583416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8640720" y="5832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640720" y="5832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9072720" y="5832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072720" y="604836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856720" y="583416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9070920" y="6048360"/>
            <a:ext cx="2773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5183280" y="61894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048360" y="61894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048360" y="6407280"/>
            <a:ext cx="2592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700000" y="6407280"/>
            <a:ext cx="248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8640720" y="61894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502920" y="6407280"/>
            <a:ext cx="234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184720" y="619272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9504360" y="61927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640720" y="619596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374920" y="6985080"/>
            <a:ext cx="3456000" cy="216000"/>
          </a:xfrm>
          <a:prstGeom prst="hexagon">
            <a:avLst>
              <a:gd name="adj" fmla="val 29407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832360" y="6551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700360" y="6769080"/>
            <a:ext cx="31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32360" y="65530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048360" y="6553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048360" y="676908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9288360" y="6553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288360" y="65548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9504360" y="65545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9504360" y="6769080"/>
            <a:ext cx="23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830920" y="6985080"/>
            <a:ext cx="3456000" cy="21600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286920" y="6985080"/>
            <a:ext cx="3456000" cy="21600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00360" y="151128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7986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9145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7986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9163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0146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1305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0146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1320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2306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33465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2306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3480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4466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622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44664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5640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6622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7782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6622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78000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8782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9942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782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9956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0942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2102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40942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116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43099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44258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3099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4276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5259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46418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5259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32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7419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48578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47419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592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9579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0734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95792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752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51735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2894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1735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29128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53895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55054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3895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5069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6055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7214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6055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7229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5821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937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821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9389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6037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53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6037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54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253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369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253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370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469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585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469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586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684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6800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684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02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900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7016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900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018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7116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7232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7116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234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7332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7448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33284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450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7548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64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7548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66620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7764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7880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764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881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7980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8096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7980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097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8196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8312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8196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313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8412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528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8412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529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8628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8744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8628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745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8844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8959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884412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961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9059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9175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9059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17748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9275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9391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9275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9393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9491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9607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9491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609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9707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9823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9707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825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9923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0039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9923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040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10139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255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10139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0256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10355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10471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0355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0472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0571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10686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10571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0688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10787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10902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0787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0904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1003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1118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11003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1120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11219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11334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121904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1336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1434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11550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11434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155240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11650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11766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11650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1768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4103640" y="7342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03640" y="734220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535640" y="7342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2700360" y="7559640"/>
            <a:ext cx="14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319640" y="7343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4535640" y="7559640"/>
            <a:ext cx="30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7559640" y="7343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559640" y="7343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7991640" y="7343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75640" y="734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11015640" y="73454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1015640" y="734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1447640" y="73454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1231640" y="734688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7920000" y="7543800"/>
            <a:ext cx="4022640" cy="576360"/>
            <a:chOff x="7920000" y="7543800"/>
            <a:chExt cx="4022640" cy="576360"/>
          </a:xfrm>
        </p:grpSpPr>
        <p:sp>
          <p:nvSpPr>
            <p:cNvPr id="655" name=""/>
            <p:cNvSpPr/>
            <p:nvPr/>
          </p:nvSpPr>
          <p:spPr>
            <a:xfrm flipH="1">
              <a:off x="7991640" y="7545600"/>
              <a:ext cx="30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11447640" y="7543800"/>
              <a:ext cx="39672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9308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92000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42652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35344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858160" y="7696440"/>
              <a:ext cx="43200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785080" y="7669440"/>
              <a:ext cx="5670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29016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21708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721800" y="7696440"/>
              <a:ext cx="43200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648720" y="7669440"/>
              <a:ext cx="5670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15380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008072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585440" y="7696440"/>
              <a:ext cx="43200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512360" y="7669440"/>
              <a:ext cx="5670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01744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94436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44908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137600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2519280" y="7704000"/>
            <a:ext cx="5473800" cy="216000"/>
          </a:xfrm>
          <a:prstGeom prst="roundRect">
            <a:avLst>
              <a:gd name="adj" fmla="val 36764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448000" y="8280360"/>
            <a:ext cx="209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540320" y="8064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5403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75632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18796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40396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6196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8356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0516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6760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48324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69924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91524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1308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3468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5628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77888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9945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82105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4265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64252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85816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907416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929016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95058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97218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99378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015380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036944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58544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080144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10170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12330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14490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166508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18807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20967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31640" y="1251000"/>
            <a:ext cx="2327400" cy="71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32360" y="1577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Pixel_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31640" y="19447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31280" y="229716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VidBuf_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31640" y="265752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VidBuf_count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31280" y="301788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VidBuf_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31640" y="33782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VidBuf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31640" y="373860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VidBuf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31280" y="409896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Load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32360" y="445932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Data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32360" y="48196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2Emc_Ena_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31640" y="518004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31640" y="554040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31640" y="59007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33080" y="62611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2Emc_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33800" y="662148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c2Vid_xfe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32360" y="697860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31280" y="733428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LoadN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31640" y="76262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32360" y="79135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Blank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32360" y="12891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OPB_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1844360" y="1251000"/>
            <a:ext cx="973080" cy="71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808360" y="11509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240000" y="115236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72000" y="11541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103640" y="115560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35640" y="115740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967280" y="11588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398920" y="11606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30920" y="116208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262560" y="116352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694560" y="11653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126200" y="11667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558200" y="11685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989840" y="117000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421840" y="117144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853480" y="11732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9285120" y="117468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9717120" y="117648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0148760" y="11779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0580760" y="117936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1012400" y="11811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1444400" y="118260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736720" y="34560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637236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6588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5880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04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8040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7020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200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7236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3600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74516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45164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76676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6676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78836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8836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80992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0992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83152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31528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85312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5312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87472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874728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89629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89629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91789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91789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93949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39492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96105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105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98265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98265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100425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00425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102585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025856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04742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04742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106902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06902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109062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09062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111222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112220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13396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13396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15552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15552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11773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177308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11988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19887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122061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22061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124221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24221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477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6575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6691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6575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92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6791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6907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791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908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7007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7122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700740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124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7223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7338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7223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34076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7439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7554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439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556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7655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7770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7655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772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7870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7986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7870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988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8086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8202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8086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204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8302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8418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8302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420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8518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86342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851868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8636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87343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88502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87343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85204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89503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90662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89503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90676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91663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92822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91663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92836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93819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94978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93819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4996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95979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97138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95979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971568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98139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99298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98139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99313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100299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101458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100299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01473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102456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103615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102456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03633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104616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105775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04616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5789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06776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107935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106776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07949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108936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110091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1089360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10109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111092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112251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11092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122696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113252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114411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113252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14426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115412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16571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115412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16586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117568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118728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117568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18746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119728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120888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119728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20902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121888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123048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21888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3062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124048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125204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1240488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25222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27016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48616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2701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8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2917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9178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3133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338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349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34980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3565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56544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3781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814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3997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9974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4213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2130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4429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2908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4645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6450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4861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86108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5076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0767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5292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2927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5508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50872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5724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7243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5940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9403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6156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1563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6372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37236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6588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5880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6804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040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7020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0200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236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23600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736720" y="277920"/>
            <a:ext cx="84963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Book Antiqua"/>
              </a:rPr>
              <a:t>End-of-Line Deta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7453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4534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7669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6690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7886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88688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81025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81025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83199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83199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85359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5359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226692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69892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13056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56220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99420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42584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485784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28948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72148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15312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58512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01676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21472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64960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08448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519360" y="201600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956040" y="2016000"/>
            <a:ext cx="5652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90920" y="201600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82616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26104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69592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130800" y="201600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56604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007400" y="2016000"/>
            <a:ext cx="564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44696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88688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832644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45020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788364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831708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26692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19384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69892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6258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26836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1956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58656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5134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0182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9454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45020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73771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78818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80876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31384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824076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195640" y="310212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84360" y="3535200"/>
            <a:ext cx="1166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48292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69892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91456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13056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34656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5622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7782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9942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421020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42584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64184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85784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07348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28948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50548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72148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93712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15312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36912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58512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80076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01676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723276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4484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76644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8804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09640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8312040" y="39654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528040" y="3965400"/>
            <a:ext cx="411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35280" y="504504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861080" y="482256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861080" y="48229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5292720" y="482256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076720" y="482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292720" y="5040360"/>
            <a:ext cx="777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557440" y="4103640"/>
            <a:ext cx="576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11280" y="4464000"/>
            <a:ext cx="81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050920" y="540216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5076720" y="518616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76720" y="51865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5508720" y="518616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292720" y="518796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266920" y="575928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5292720" y="55432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292720" y="5543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5724360" y="55432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724360" y="575928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508720" y="554508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942160" y="5761080"/>
            <a:ext cx="712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482920" y="612468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5508720" y="5908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508720" y="5908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5940360" y="5908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940360" y="6124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724360" y="591012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5938920" y="6119640"/>
            <a:ext cx="65548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2916360" y="62658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2916360" y="6482880"/>
            <a:ext cx="2592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5508720" y="62658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373800" y="6480000"/>
            <a:ext cx="612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052720" y="626904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6372360" y="62690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508720" y="627228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2700360" y="662760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541080" y="6845400"/>
            <a:ext cx="187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700360" y="66294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2916360" y="6629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16360" y="684540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6156360" y="6629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156360" y="66308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6372360" y="66308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6372000" y="6840360"/>
            <a:ext cx="604980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98920" y="7061040"/>
            <a:ext cx="3455640" cy="216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154560" y="7061040"/>
            <a:ext cx="2162520" cy="216000"/>
          </a:xfrm>
          <a:prstGeom prst="hexagon">
            <a:avLst>
              <a:gd name="adj" fmla="val 18401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5909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2689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2805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2689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806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2905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3021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2905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022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3121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3236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312120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238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3336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3452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3336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45456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3552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3668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3552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670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3768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3884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3768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886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3984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100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3984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102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4200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4316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4200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317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416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4532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4416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533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4632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4748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463248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749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4848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4964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4848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96584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5064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5180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5064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181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5280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5396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5280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397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5495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5611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5495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613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5711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5827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5711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82948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927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6043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5927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045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6143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6259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6143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261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6359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475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6359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477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6575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6691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6575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692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6791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6907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6791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908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7007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7122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0740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7124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7223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7338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7223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34076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7439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7554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7439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556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7655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7770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7655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772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7870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7986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7870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7988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8086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8202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8086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204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8302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8418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8302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8420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8518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86342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851868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8636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1115640" y="7632720"/>
            <a:ext cx="33130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427640" y="74199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427640" y="741996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4859280" y="74199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643280" y="74214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7883640" y="7421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7883640" y="74214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8315280" y="7421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8099280" y="742320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4858920" y="7621560"/>
            <a:ext cx="302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8317080" y="7637400"/>
            <a:ext cx="47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02144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948360" y="77454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45488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38180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88688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81380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31852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824544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875016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67744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918216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910908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961380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9540720" y="77454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004580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997272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047744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0404360" y="77454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48760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270360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919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3135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351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56724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782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15960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375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591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807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702324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7238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7454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7670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788688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810252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831852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853452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8750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8966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9182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939816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961380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982980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004580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02614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04774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06934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68360" y="1251000"/>
            <a:ext cx="2160720" cy="71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89440" y="1577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Pixel_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89080" y="19447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88360" y="229716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VidBuf_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89080" y="265752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VidBuf_count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88720" y="302436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VidBuf_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88720" y="33847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VidBuf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89080" y="374508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VidBuf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88360" y="410544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Load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289440" y="446580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Data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89800" y="48960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2Emc_Ena_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289080" y="52563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289080" y="561672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89080" y="597708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290160" y="63374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2Emc_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291240" y="669780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c2Vid_xfe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89440" y="70484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88360" y="74106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LoadN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89080" y="770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89800" y="79898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Blank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289440" y="12891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OPB_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698920" y="116208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130560" y="116352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562200" y="11653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994200" y="11667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425840" y="11685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857840" y="117000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5289480" y="117144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721480" y="11732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153120" y="117468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585120" y="117648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7016760" y="11779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7448400" y="117936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7880400" y="11811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8312040" y="118260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157800" y="776592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084720" y="773892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589800" y="776592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516720" y="773892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8317080" y="7061040"/>
            <a:ext cx="4248000" cy="216000"/>
          </a:xfrm>
          <a:prstGeom prst="hexagon">
            <a:avLst>
              <a:gd name="adj" fmla="val 36147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1788920" y="7761240"/>
            <a:ext cx="1296720" cy="216000"/>
          </a:xfrm>
          <a:prstGeom prst="roundRect">
            <a:avLst>
              <a:gd name="adj" fmla="val 36764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0910880" y="777096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0837800" y="774396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1342520" y="777096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1269800" y="774396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0910880" y="81392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1126880" y="81392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1342520" y="81392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1558520" y="81392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56544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492360" y="77454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399888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925800" y="77454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43088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35780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86252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78944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29416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22144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72616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65308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70360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919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135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351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56724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782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998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214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43088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464652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486252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07852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5294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510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726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594216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701800" y="776592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629080" y="773892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133800" y="776592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060720" y="773892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1338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0607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56544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49236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99744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92436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42908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35600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86108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7880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29272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52196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72436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6516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615636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0832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58800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65152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70200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9469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45164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737856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788364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781056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831528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824220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874728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86742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917892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91058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961056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95378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004256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99694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047420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04014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09062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08331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1133784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126476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176984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169676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220148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212840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876132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8688240" y="201600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919332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912024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962496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9551880" y="201600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005696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998388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048860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1041552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092024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1084752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135224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127916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178388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171116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11774520" y="8140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1773080" y="8354880"/>
            <a:ext cx="129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8317080" y="37512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8317080" y="37512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221588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1214280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87188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79916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30388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2308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73552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66244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16752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0944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271152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6384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14316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07008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57516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5020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0068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93372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442908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435600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875016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86774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91868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911376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962352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95504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00598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99871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049652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042344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093320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08601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136952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12968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18062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173312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224288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21698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58800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51528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70200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9469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745164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737856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788364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8105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831528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824220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87368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8006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530532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523224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73732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566424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61689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09588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7129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63988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14496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307188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357660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50352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40086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9355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43088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43578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875196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867888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918828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91155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96249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955188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1006164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99885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04979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042524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1093464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086156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137132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129824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18080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17349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224432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1217124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8317080" y="4319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8532720" y="4319640"/>
            <a:ext cx="411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8321760" y="41054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8321760" y="41054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8750160" y="4678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8966160" y="4678200"/>
            <a:ext cx="411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8755200" y="4464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8755200" y="4464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508720" y="5400720"/>
            <a:ext cx="727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2349080" y="863640"/>
            <a:ext cx="865440" cy="76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8744040" y="115236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9175680" y="11541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9607680" y="115560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0039320" y="115740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10471320" y="11588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0902960" y="11606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1334600" y="116208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1766600" y="116352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2198240" y="11653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743200" y="345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5:31:42Z</dcterms:created>
  <dc:creator>steel</dc:creator>
  <dc:description/>
  <dc:language>en-US</dc:language>
  <cp:lastModifiedBy>steel</cp:lastModifiedBy>
  <dcterms:modified xsi:type="dcterms:W3CDTF">2005-08-25T17:08:04Z</dcterms:modified>
  <cp:revision>15</cp:revision>
  <dc:subject/>
  <dc:title>投影片 1</dc:title>
</cp:coreProperties>
</file>